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2F5E-BA58-4853-B150-D8DDA36B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547-FF36-43F7-87FE-5E77558F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8B3-6580-4E0C-B787-87D03E2B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F07-D281-4165-AD0A-CE8EBE929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4871-2C78-4E34-BA5D-0C0B46DC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2D0C-57DA-4503-A0AE-7B05A60B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E76A-6EA9-44F4-8052-0B75B025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433-CADC-4B1A-A4B7-98118D2B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8E2-2A8B-48F8-8C1E-334AED0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AAE3-2EBE-4334-871C-66B4FD12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2AF-7077-47AA-B3DA-212A5189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AE9-3ED9-4579-8607-116A735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706D-41D6-49B5-93EC-51D6AE5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BA06-04E2-449A-AE74-74D9958D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CE7C-412D-4048-9611-07F978E8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E514-2EE9-4C5F-BA44-1E3C4E8B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E644-971F-44F3-910D-4AC33CF6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B3A3-71D4-4DEF-ADC8-0E29CDA3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671-204D-4D37-85A9-97A6618E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471-511F-47E2-BBBC-CB7C8E9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1F4-A816-474F-A142-E3FF1A2C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452-5B7B-40B3-B22B-61032D47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12D-B07D-40DA-A92E-815089F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A2F-07B0-4C03-9041-335B39EF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FD2-4FA2-42E4-B16A-FCDF1B684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606-3E49-4A9E-B21F-1B16CD83218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921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5954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Orthographic, Obliqu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&amp;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Isometric Projections</a:t>
            </a:r>
            <a:br>
              <a:rPr sz="5100"/>
            </a:b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54120" y="4633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reated b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pentry &amp; Joinery S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nville TAF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13" descr="MCj02506650000[1]"/>
          <p:cNvPicPr/>
          <p:nvPr/>
        </p:nvPicPr>
        <p:blipFill>
          <a:blip r:embed="rId1"/>
          <a:stretch/>
        </p:blipFill>
        <p:spPr>
          <a:xfrm>
            <a:off x="878040" y="3160800"/>
            <a:ext cx="173484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j0291984"/>
          <p:cNvPicPr/>
          <p:nvPr/>
        </p:nvPicPr>
        <p:blipFill>
          <a:blip r:embed="rId2"/>
          <a:stretch/>
        </p:blipFill>
        <p:spPr>
          <a:xfrm>
            <a:off x="6618240" y="3121200"/>
            <a:ext cx="1538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torial drawings most commonly used in the building trade are eith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OMETRIC OR OBLIQUE PROJE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006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y are probably used more in freehand sketches on the job, than detailed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4" descr="Photo 00006"/>
          <p:cNvPicPr/>
          <p:nvPr/>
        </p:nvPicPr>
        <p:blipFill>
          <a:blip r:embed="rId1"/>
          <a:stretch/>
        </p:blipFill>
        <p:spPr>
          <a:xfrm>
            <a:off x="4341960" y="3860640"/>
            <a:ext cx="34718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torial drawings most commonly used in the building trade are either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OMETRIC OR OBLIQUE PROJE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Picture 4" descr="Photo 00006"/>
          <p:cNvPicPr/>
          <p:nvPr/>
        </p:nvPicPr>
        <p:blipFill>
          <a:blip r:embed="rId1"/>
          <a:stretch/>
        </p:blipFill>
        <p:spPr>
          <a:xfrm>
            <a:off x="1384200" y="2660760"/>
            <a:ext cx="642960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sometric projection is a method used to depict three sides of an  objec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 ISO meaning equal, metric meaning measur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n isometric drawing shows length, width &amp; thicknes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wever any lines which are not parallel to the length, width &amp; thickness are not true measurements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or example the diagonals of a square or rectangle are equal on the actual object , but do not appear so in isometri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vertical lines are drawn vertically and the angle is 30 degrees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Picture 4" descr="Photo 00007"/>
          <p:cNvPicPr/>
          <p:nvPr/>
        </p:nvPicPr>
        <p:blipFill>
          <a:blip r:embed="rId1"/>
          <a:stretch/>
        </p:blipFill>
        <p:spPr>
          <a:xfrm>
            <a:off x="7480440" y="6029280"/>
            <a:ext cx="120636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sometric projection is a method used to depict three sides of an  objec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4" descr="Photo 00007"/>
          <p:cNvPicPr/>
          <p:nvPr/>
        </p:nvPicPr>
        <p:blipFill>
          <a:blip r:embed="rId1"/>
          <a:stretch/>
        </p:blipFill>
        <p:spPr>
          <a:xfrm>
            <a:off x="1346040" y="2392200"/>
            <a:ext cx="6496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blique projection is another method of showing three sides of an object in on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698560"/>
            <a:ext cx="8229600" cy="34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n oblique drawing shows one view in true propor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sides of an object are drawn full size and at a angle of 45 degre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‘PROPORTION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he drawing we halve the measurement of the oblique side.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4" descr="Photo 00008"/>
          <p:cNvPicPr/>
          <p:nvPr/>
        </p:nvPicPr>
        <p:blipFill>
          <a:blip r:embed="rId1"/>
          <a:stretch/>
        </p:blipFill>
        <p:spPr>
          <a:xfrm>
            <a:off x="5800680" y="5083200"/>
            <a:ext cx="2205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76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blique projection is another method of showing three sides of an object in on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2" name="Picture 4" descr="Photo 00008"/>
          <p:cNvPicPr/>
          <p:nvPr/>
        </p:nvPicPr>
        <p:blipFill>
          <a:blip r:embed="rId1"/>
          <a:stretch/>
        </p:blipFill>
        <p:spPr>
          <a:xfrm>
            <a:off x="1292400" y="2271600"/>
            <a:ext cx="650556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can be better illustrated if a cube is drawn in bot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isometric &amp; oblique proje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08304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diagonals on the face of the oblique drawing are equal because this is a true view but not on the isometri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4" descr="Photo 00009"/>
          <p:cNvPicPr/>
          <p:nvPr/>
        </p:nvPicPr>
        <p:blipFill>
          <a:blip r:embed="rId1"/>
          <a:stretch/>
        </p:blipFill>
        <p:spPr>
          <a:xfrm>
            <a:off x="5032440" y="4336920"/>
            <a:ext cx="27432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982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can be better illustrated if a cube is drawn in both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isometric &amp; oblique proje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Picture 4" descr="Photo 00009"/>
          <p:cNvPicPr/>
          <p:nvPr/>
        </p:nvPicPr>
        <p:blipFill>
          <a:blip r:embed="rId1"/>
          <a:stretch/>
        </p:blipFill>
        <p:spPr>
          <a:xfrm>
            <a:off x="1828800" y="2606760"/>
            <a:ext cx="55087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the correct or true shape of an object drawn on a flat surface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30360"/>
            <a:ext cx="8229600" cy="35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is the main method used to represent an object in a drawing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gives three views of the object in three separate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ves three basic dimensions, Length, Width &amp; Thickn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ives three views of the object  plan, front, &amp; side elevation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Photo 00010"/>
          <p:cNvPicPr/>
          <p:nvPr/>
        </p:nvPicPr>
        <p:blipFill>
          <a:blip r:embed="rId1"/>
          <a:stretch/>
        </p:blipFill>
        <p:spPr>
          <a:xfrm>
            <a:off x="6975360" y="5964120"/>
            <a:ext cx="12067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the correct or true shape of an object drawn on a flat surface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4" descr="Photo 00010"/>
          <p:cNvPicPr/>
          <p:nvPr/>
        </p:nvPicPr>
        <p:blipFill>
          <a:blip r:embed="rId1"/>
          <a:stretch/>
        </p:blipFill>
        <p:spPr>
          <a:xfrm>
            <a:off x="1346040" y="2468520"/>
            <a:ext cx="629784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20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tatement of Objectives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8640" indent="-45864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tudent will be able to:-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produce oblique, isometric &amp; orthographic representations of object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the plan view, front and side elevation of a particular object given  either the isometric or oblique representation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an isometric or oblique representations of an object given the plan, front and side elevation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tate the need for using scales when drawing an objec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Draw the plan of an object at a scale of 1:2 and 1:5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8640" indent="-45864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Find the measurements  from a plan when a scale is given but no measurements are given on the plan.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object shown if surrounded by 3 surfaces or planes (vertical, side vertical &amp; horizontal) each of the 3 views is called projection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three surfaces or planes are to be represented on paper as one flat surfac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5" name="Picture 4" descr="Photo 00011"/>
          <p:cNvPicPr/>
          <p:nvPr/>
        </p:nvPicPr>
        <p:blipFill>
          <a:blip r:embed="rId1"/>
          <a:stretch/>
        </p:blipFill>
        <p:spPr>
          <a:xfrm>
            <a:off x="5032440" y="4135320"/>
            <a:ext cx="36543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1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object shown if surrounded by 3 surfaces or planes (vertical, side vertical &amp; horizontal) each of the 3 views is called projection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Picture 4" descr="Photo 00011"/>
          <p:cNvPicPr/>
          <p:nvPr/>
        </p:nvPicPr>
        <p:blipFill>
          <a:blip r:embed="rId1"/>
          <a:stretch/>
        </p:blipFill>
        <p:spPr>
          <a:xfrm>
            <a:off x="1692360" y="3160800"/>
            <a:ext cx="55735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e 3 views of the object on a drawing are obtained by projecting or ‘throwing’ points of the object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3338640"/>
            <a:ext cx="8229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se projection lines are at 90 degrees to the surface of the object. Therefore the view obtained will be a true one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4" descr="Photo 00012"/>
          <p:cNvPicPr/>
          <p:nvPr/>
        </p:nvPicPr>
        <p:blipFill>
          <a:blip r:embed="rId1"/>
          <a:stretch/>
        </p:blipFill>
        <p:spPr>
          <a:xfrm>
            <a:off x="461880" y="4657680"/>
            <a:ext cx="2419560" cy="1582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Photo 00013"/>
          <p:cNvPicPr/>
          <p:nvPr/>
        </p:nvPicPr>
        <p:blipFill>
          <a:blip r:embed="rId2"/>
          <a:stretch/>
        </p:blipFill>
        <p:spPr>
          <a:xfrm>
            <a:off x="3419640" y="4707000"/>
            <a:ext cx="2331720" cy="1525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Photo 00014"/>
          <p:cNvPicPr/>
          <p:nvPr/>
        </p:nvPicPr>
        <p:blipFill>
          <a:blip r:embed="rId3"/>
          <a:stretch/>
        </p:blipFill>
        <p:spPr>
          <a:xfrm>
            <a:off x="6377040" y="4735440"/>
            <a:ext cx="2266920" cy="1482840"/>
          </a:xfrm>
          <a:prstGeom prst="rect">
            <a:avLst/>
          </a:prstGeom>
          <a:ln w="0">
            <a:noFill/>
          </a:ln>
        </p:spPr>
      </p:pic>
      <p:sp>
        <p:nvSpPr>
          <p:cNvPr id="173" name="Line 8"/>
          <p:cNvSpPr/>
          <p:nvPr/>
        </p:nvSpPr>
        <p:spPr>
          <a:xfrm>
            <a:off x="457200" y="6240600"/>
            <a:ext cx="82296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Photo 00012"/>
          <p:cNvPicPr/>
          <p:nvPr/>
        </p:nvPicPr>
        <p:blipFill>
          <a:blip r:embed="rId1"/>
          <a:stretch/>
        </p:blipFill>
        <p:spPr>
          <a:xfrm>
            <a:off x="539640" y="415800"/>
            <a:ext cx="3302280" cy="2159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Photo 00013"/>
          <p:cNvPicPr/>
          <p:nvPr/>
        </p:nvPicPr>
        <p:blipFill>
          <a:blip r:embed="rId2"/>
          <a:stretch/>
        </p:blipFill>
        <p:spPr>
          <a:xfrm>
            <a:off x="5072040" y="2575080"/>
            <a:ext cx="3290760" cy="2151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Photo 00014"/>
          <p:cNvPicPr/>
          <p:nvPr/>
        </p:nvPicPr>
        <p:blipFill>
          <a:blip r:embed="rId3"/>
          <a:stretch/>
        </p:blipFill>
        <p:spPr>
          <a:xfrm>
            <a:off x="539640" y="4351320"/>
            <a:ext cx="330228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3994200" y="779400"/>
            <a:ext cx="5302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plan is obtained by looking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down on the top’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of the object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(i.e. projecting onto the horizontal plane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423720" y="2890800"/>
            <a:ext cx="3956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front elevation is projected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nto the vertical plane but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oking from the front’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995640" y="4965840"/>
            <a:ext cx="47642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he side elevation is projected onto the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side vertical plane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’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looking from the side’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paper represents one flat surface, so if the objects drawn were laid out flat then the three views would appear as draw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45456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jections are made from one view to anoth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ojecting from the plan and front elevation will give the side elevation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4" descr="Photo 00015"/>
          <p:cNvPicPr/>
          <p:nvPr/>
        </p:nvPicPr>
        <p:blipFill>
          <a:blip r:embed="rId1"/>
          <a:stretch/>
        </p:blipFill>
        <p:spPr>
          <a:xfrm>
            <a:off x="5724360" y="4941720"/>
            <a:ext cx="250200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paper represents one flat surface, so if the objects drawn were laid out flat then the three views would appear as drawn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4" name="Picture 4" descr="Photo 00015"/>
          <p:cNvPicPr/>
          <p:nvPr/>
        </p:nvPicPr>
        <p:blipFill>
          <a:blip r:embed="rId1"/>
          <a:stretch/>
        </p:blipFill>
        <p:spPr>
          <a:xfrm>
            <a:off x="1614600" y="2982960"/>
            <a:ext cx="549756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used for working drawings it is essential that the sizes or dimensions are placed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04488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ost objects to be drawn are bigger than the drawing sheet, then it is necessary to fit or ‘scale the object it so it can be placed onto the paper.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Picture 4" descr="Photo 00016"/>
          <p:cNvPicPr/>
          <p:nvPr/>
        </p:nvPicPr>
        <p:blipFill>
          <a:blip r:embed="rId1"/>
          <a:stretch/>
        </p:blipFill>
        <p:spPr>
          <a:xfrm>
            <a:off x="5262480" y="4475160"/>
            <a:ext cx="2897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rthographic projection is used for working drawings it is essential that the sizes or dimensions are placed onto the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Group 29"/>
          <p:cNvGrpSpPr/>
          <p:nvPr/>
        </p:nvGrpSpPr>
        <p:grpSpPr>
          <a:xfrm>
            <a:off x="1612800" y="3038400"/>
            <a:ext cx="5532480" cy="3616560"/>
            <a:chOff x="1612800" y="3038400"/>
            <a:chExt cx="5532480" cy="3616560"/>
          </a:xfrm>
        </p:grpSpPr>
        <p:pic>
          <p:nvPicPr>
            <p:cNvPr id="190" name="Picture 17" descr="Photo 00016"/>
            <p:cNvPicPr/>
            <p:nvPr/>
          </p:nvPicPr>
          <p:blipFill>
            <a:blip r:embed="rId1"/>
            <a:stretch/>
          </p:blipFill>
          <p:spPr>
            <a:xfrm>
              <a:off x="1612800" y="3038400"/>
              <a:ext cx="5532480" cy="3616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1" name="Group 18"/>
            <p:cNvGrpSpPr/>
            <p:nvPr/>
          </p:nvGrpSpPr>
          <p:grpSpPr>
            <a:xfrm>
              <a:off x="1844640" y="3198960"/>
              <a:ext cx="5108760" cy="3265200"/>
              <a:chOff x="1844640" y="3198960"/>
              <a:chExt cx="5108760" cy="3265200"/>
            </a:xfrm>
          </p:grpSpPr>
          <p:sp>
            <p:nvSpPr>
              <p:cNvPr id="192" name="Line 19"/>
              <p:cNvSpPr/>
              <p:nvPr/>
            </p:nvSpPr>
            <p:spPr>
              <a:xfrm>
                <a:off x="1844640" y="3198960"/>
                <a:ext cx="510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>
                <a:off x="1844640" y="6464160"/>
                <a:ext cx="510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4" name="Line 21"/>
              <p:cNvSpPr/>
              <p:nvPr/>
            </p:nvSpPr>
            <p:spPr>
              <a:xfrm>
                <a:off x="1844640" y="3198960"/>
                <a:ext cx="0" cy="326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>
                <a:off x="6953400" y="3198960"/>
                <a:ext cx="0" cy="326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grpSp>
            <p:nvGrpSpPr>
              <p:cNvPr id="196" name="Group 23"/>
              <p:cNvGrpSpPr/>
              <p:nvPr/>
            </p:nvGrpSpPr>
            <p:grpSpPr>
              <a:xfrm>
                <a:off x="5340240" y="6110640"/>
                <a:ext cx="1612800" cy="353520"/>
                <a:chOff x="5340240" y="6110640"/>
                <a:chExt cx="1612800" cy="353520"/>
              </a:xfrm>
            </p:grpSpPr>
            <p:sp>
              <p:nvSpPr>
                <p:cNvPr id="197" name="Line 24"/>
                <p:cNvSpPr/>
                <p:nvPr/>
              </p:nvSpPr>
              <p:spPr>
                <a:xfrm flipV="1">
                  <a:off x="5916600" y="6271920"/>
                  <a:ext cx="0" cy="19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98" name="Line 25"/>
                <p:cNvSpPr/>
                <p:nvPr/>
              </p:nvSpPr>
              <p:spPr>
                <a:xfrm>
                  <a:off x="5340240" y="6110640"/>
                  <a:ext cx="1612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99" name="Line 26"/>
                <p:cNvSpPr/>
                <p:nvPr/>
              </p:nvSpPr>
              <p:spPr>
                <a:xfrm>
                  <a:off x="5340240" y="6271920"/>
                  <a:ext cx="107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200" name="Line 27"/>
                <p:cNvSpPr/>
                <p:nvPr/>
              </p:nvSpPr>
              <p:spPr>
                <a:xfrm>
                  <a:off x="6415200" y="611820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201" name="Line 28"/>
                <p:cNvSpPr/>
                <p:nvPr/>
              </p:nvSpPr>
              <p:spPr>
                <a:xfrm>
                  <a:off x="5340240" y="6118200"/>
                  <a:ext cx="0" cy="34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 keep the drawing in proportion the actual dimensions are reduced in the same ratio. This is called ‘SCALING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3300480"/>
            <a:ext cx="8229600" cy="31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though the actual measurements are written on the drawing they don’t actually measure that amount on a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‘SCALED’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drawing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4" name="Picture 4" descr="Photo 00017"/>
          <p:cNvPicPr/>
          <p:nvPr/>
        </p:nvPicPr>
        <p:blipFill>
          <a:blip r:embed="rId1"/>
          <a:stretch/>
        </p:blipFill>
        <p:spPr>
          <a:xfrm>
            <a:off x="5454720" y="4896000"/>
            <a:ext cx="23968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 keep the drawing in proportion the actual dimensions are reduced in the same ratio. This is called ‘SCALING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6" name="Picture 4" descr="Photo 00017"/>
          <p:cNvPicPr/>
          <p:nvPr/>
        </p:nvPicPr>
        <p:blipFill>
          <a:blip r:embed="rId1"/>
          <a:stretch/>
        </p:blipFill>
        <p:spPr>
          <a:xfrm>
            <a:off x="1806480" y="2963880"/>
            <a:ext cx="53532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y object can be drawn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purpose of drawing may be to show the object either as a picture or to show it in a way that would enable someone to make i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4" descr="Photo 00001"/>
          <p:cNvPicPr/>
          <p:nvPr/>
        </p:nvPicPr>
        <p:blipFill>
          <a:blip r:embed="rId1"/>
          <a:stretch/>
        </p:blipFill>
        <p:spPr>
          <a:xfrm>
            <a:off x="885960" y="2776680"/>
            <a:ext cx="741816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to scale is the reducing or enlarging by ratio of an object from its actual size that can fit onto a working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caling is a ratio that can be expressed as:                         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Verdana"/>
              </a:rPr>
              <a:t>1:2  1:5  1:10  1:50  1:1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scale chosen depends on the size of the object and the size of the drawing pap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4" descr="Photo 00018"/>
          <p:cNvPicPr/>
          <p:nvPr/>
        </p:nvPicPr>
        <p:blipFill>
          <a:blip r:embed="rId1"/>
          <a:stretch/>
        </p:blipFill>
        <p:spPr>
          <a:xfrm>
            <a:off x="6515280" y="5450040"/>
            <a:ext cx="166680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22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Drawing to scale is the reducing or enlarging by ratio of an object from its actual size that can fit onto a working draw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Picture 4" descr="Photo 00018"/>
          <p:cNvPicPr/>
          <p:nvPr/>
        </p:nvPicPr>
        <p:blipFill>
          <a:blip r:embed="rId1"/>
          <a:stretch/>
        </p:blipFill>
        <p:spPr>
          <a:xfrm>
            <a:off x="1576440" y="2897280"/>
            <a:ext cx="5568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27080" y="1482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n a scale of 1:5 the 300 represents 300mm  but to a scale of 1:5 in represents 60m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30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= 60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5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3" name="Picture 4" descr="Photo 00019"/>
          <p:cNvPicPr/>
          <p:nvPr/>
        </p:nvPicPr>
        <p:blipFill>
          <a:blip r:embed="rId1"/>
          <a:stretch/>
        </p:blipFill>
        <p:spPr>
          <a:xfrm>
            <a:off x="1844640" y="3576600"/>
            <a:ext cx="47624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f measurements are indicated on a drawing they should be used in preference to scal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14784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ll dimensions are not shown on a drawing as this would clutter the working drawing. If this is the case scale matching the drawing can be done but accuracy can be compromis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Picture 4" descr="Photo 00020"/>
          <p:cNvPicPr/>
          <p:nvPr/>
        </p:nvPicPr>
        <p:blipFill>
          <a:blip r:embed="rId1"/>
          <a:stretch/>
        </p:blipFill>
        <p:spPr>
          <a:xfrm>
            <a:off x="5686560" y="4998960"/>
            <a:ext cx="23572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f measurements are indicated on a drawing they should be used in preference to scaling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Picture 4" descr="Photo 00020"/>
          <p:cNvPicPr/>
          <p:nvPr/>
        </p:nvPicPr>
        <p:blipFill>
          <a:blip r:embed="rId1"/>
          <a:stretch/>
        </p:blipFill>
        <p:spPr>
          <a:xfrm>
            <a:off x="1600200" y="2687760"/>
            <a:ext cx="589104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868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t this stage you should be have some knowledge of:-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584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3 different types of drawing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 to draw and recognise these typ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purpose of scal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ow to use scal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Picture 4" descr="Photo 00021"/>
          <p:cNvPicPr/>
          <p:nvPr/>
        </p:nvPicPr>
        <p:blipFill>
          <a:blip r:embed="rId1"/>
          <a:stretch/>
        </p:blipFill>
        <p:spPr>
          <a:xfrm>
            <a:off x="4264200" y="3762360"/>
            <a:ext cx="442260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78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rpenters have to do the actual building which involves “READING” plans and interpreting drawing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out this knowledge of drawing any carpenter will find it hard to understand the plans and therefore hard to build the job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3" name="Picture 4" descr="Photo 00022"/>
          <p:cNvPicPr/>
          <p:nvPr/>
        </p:nvPicPr>
        <p:blipFill>
          <a:blip r:embed="rId1"/>
          <a:stretch/>
        </p:blipFill>
        <p:spPr>
          <a:xfrm>
            <a:off x="2085840" y="3467160"/>
            <a:ext cx="494352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Photo 00021"/>
          <p:cNvPicPr/>
          <p:nvPr/>
        </p:nvPicPr>
        <p:blipFill>
          <a:blip r:embed="rId1"/>
          <a:stretch/>
        </p:blipFill>
        <p:spPr>
          <a:xfrm>
            <a:off x="577800" y="855720"/>
            <a:ext cx="79884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2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 the building Trade drawings serve two purpos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ttages can be drawn as a ‘pictorial’ by an architec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r drawn by a  builder to show what it will look like when finishe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Photo 00002"/>
          <p:cNvPicPr/>
          <p:nvPr/>
        </p:nvPicPr>
        <p:blipFill>
          <a:blip r:embed="rId1"/>
          <a:stretch/>
        </p:blipFill>
        <p:spPr>
          <a:xfrm>
            <a:off x="5262480" y="3929040"/>
            <a:ext cx="34243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22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n the building Trade drawings serve two purpos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4" descr="Photo 00002"/>
          <p:cNvPicPr/>
          <p:nvPr/>
        </p:nvPicPr>
        <p:blipFill>
          <a:blip r:embed="rId1"/>
          <a:stretch/>
        </p:blipFill>
        <p:spPr>
          <a:xfrm>
            <a:off x="1076400" y="1873080"/>
            <a:ext cx="67262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Housing joints can be shown the same way for similar reason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936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rough housing j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4" descr="Photo 00003"/>
          <p:cNvPicPr/>
          <p:nvPr/>
        </p:nvPicPr>
        <p:blipFill>
          <a:blip r:embed="rId1"/>
          <a:stretch/>
        </p:blipFill>
        <p:spPr>
          <a:xfrm>
            <a:off x="1763640" y="1697040"/>
            <a:ext cx="55738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8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ttages can be drawn orthographical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08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is shows internal details such as:-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oom sizes and spacing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rthographic projections is from one aspect on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is gives the builder the information required to do the job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4" descr="Photo 00004"/>
          <p:cNvPicPr/>
          <p:nvPr/>
        </p:nvPicPr>
        <p:blipFill>
          <a:blip r:embed="rId1"/>
          <a:stretch/>
        </p:blipFill>
        <p:spPr>
          <a:xfrm>
            <a:off x="5724360" y="4865760"/>
            <a:ext cx="23590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ttages can be drawn orthographicall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5" name="Picture 4" descr="Photo 00004"/>
          <p:cNvPicPr/>
          <p:nvPr/>
        </p:nvPicPr>
        <p:blipFill>
          <a:blip r:embed="rId1"/>
          <a:stretch/>
        </p:blipFill>
        <p:spPr>
          <a:xfrm>
            <a:off x="961920" y="1754280"/>
            <a:ext cx="71215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his also applies to a simple housing joint for the same reas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Photo 00005"/>
          <p:cNvPicPr/>
          <p:nvPr/>
        </p:nvPicPr>
        <p:blipFill>
          <a:blip r:embed="rId1"/>
          <a:stretch/>
        </p:blipFill>
        <p:spPr>
          <a:xfrm>
            <a:off x="1268280" y="1949400"/>
            <a:ext cx="63756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22:52:26Z</dcterms:created>
  <dc:creator>greg</dc:creator>
  <dc:description/>
  <dc:language>en-US</dc:language>
  <cp:lastModifiedBy>gcheetham</cp:lastModifiedBy>
  <dcterms:modified xsi:type="dcterms:W3CDTF">2009-03-03T00:04:50Z</dcterms:modified>
  <cp:revision>16</cp:revision>
  <dc:subject/>
  <dc:title>Orthographic, Oblique &amp; Isometric Projections </dc:title>
</cp:coreProperties>
</file>